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3F91-9848-4046-AC4A-8A31764AD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2D9D-782F-46FD-88DA-A08D7746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2C44-75A0-4687-B135-841EFC52B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2549-4544-4A92-BDC0-804137DF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06AD-60FF-4986-B70C-F66785F8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2EB9-C83D-4A0F-835D-7A685068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6712-6AD5-493B-A81C-54DD51F9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618A-4B80-4B34-B8FD-EFA66673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8071-D8C8-4BF1-A589-876150E3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1F16-0D54-499A-9BAD-40B76498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53D9-FEA3-4B9E-BE16-A216C226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05B4-53B9-47F1-AFA1-6081F6CB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9D59-F78D-431E-B815-6526EF6BC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85800" y="762120"/>
            <a:ext cx="8018280" cy="5688000"/>
            <a:chOff x="685800" y="762120"/>
            <a:chExt cx="8018280" cy="56880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990360" y="990720"/>
              <a:ext cx="7620120" cy="52578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3" name=""/>
            <p:cNvGraphicFramePr/>
            <p:nvPr/>
          </p:nvGraphicFramePr>
          <p:xfrm>
            <a:off x="685800" y="762120"/>
            <a:ext cx="8018280" cy="5688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85800" y="762120"/>
                      <a:ext cx="8018280" cy="56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" name=""/>
          <p:cNvSpPr/>
          <p:nvPr/>
        </p:nvSpPr>
        <p:spPr>
          <a:xfrm>
            <a:off x="5638680" y="34290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44680" y="762120"/>
            <a:ext cx="8599320" cy="568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272880" y="585720"/>
            <a:ext cx="8599680" cy="568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272880" y="585720"/>
            <a:ext cx="8599680" cy="568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609480" y="4038480"/>
            <a:ext cx="1676520" cy="2014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ish the world would be drug free and smoking free. It would be no pollu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295280"/>
            <a:ext cx="35053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A CLEANER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86600" y="5562720"/>
            <a:ext cx="7621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5:57:04Z</dcterms:created>
  <dc:creator>Computer Lab</dc:creator>
  <dc:description/>
  <dc:language>en-US</dc:language>
  <cp:lastModifiedBy>Computer Lab</cp:lastModifiedBy>
  <dcterms:modified xsi:type="dcterms:W3CDTF">2009-03-12T15:44:23Z</dcterms:modified>
  <cp:revision>2</cp:revision>
  <dc:subject/>
  <dc:title>Slide 1</dc:title>
</cp:coreProperties>
</file>